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838A-56E7-46BD-A9F4-539754BB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32A4-184C-4CB2-B6A1-6EF613EA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7F6D-FF30-4F8E-87BC-384F65BB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511A-022B-4711-A800-28F19C09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ED6D-F108-41C6-B505-9BC3DE92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8191-8B2B-4487-AC57-A4584F7B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6DAC-25B8-4E0E-87DC-6FAF5F8B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1D65-58E7-431F-AE14-57619E52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8462-CD36-4ACB-B124-213DDF5D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00A0-41A7-47AB-B5B4-2E1AAC95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FE15-52ED-475E-83CC-DF12A45E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E8C4-8E4D-42F8-BC79-1160E002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E6AC-D0C8-4BD2-8A49-460AF6D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F3BE-9BFC-4E66-8F1F-A645963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DF7E-54C1-4921-B6A8-7CA2EFDD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81D4-C331-481B-B2B8-8C8C2724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7FD7-CF33-4BA8-87A4-E9ED73F7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198D-8CDA-46AA-9A79-36B999A8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B9AB-5F41-4A78-A92A-BCECDEBD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CD4A-ED46-44B8-B943-10CAC3F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560F-F3BF-4B48-ACC8-B90A92AB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2CAA-B703-4F76-8249-2C1F0D2E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5B2E-97C3-4EB9-B603-1631689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43BE-DE51-4577-9285-52D780CE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AD3E-9DDF-4EA2-961F-A2215B030DA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E4E4-BC15-4BC2-ABA2-01CE08FA56D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40760"/>
            <a:ext cx="11279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0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ден на радост свя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итви и покло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вести земя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ия зако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ден пресвят, тържеств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отдих и пок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ен ден Божеств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светъл ден е т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0076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ърковните олтар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нес канят вси души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ца, младежи, стар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там ще утеш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азнува днес земя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ня на радост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икуват небеса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арува любов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52960" y="573840"/>
            <a:ext cx="8127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рбата на всемир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върши Бог в тоз ден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в нас не умир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спомен освет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славяме със радо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ия Отец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оз ден, изпълнен с свято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ашия Творец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58520" y="573840"/>
            <a:ext cx="771552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бравили тревог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очивния ден свя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емаме от Бог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обна благода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ден пресвят, тържеств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отдих и пок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ен ден Божеств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светъл ден е т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9T08:36:41Z</dcterms:modified>
  <cp:revision>19</cp:revision>
  <dc:subject/>
  <dc:title>Slide 1</dc:title>
</cp:coreProperties>
</file>